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743-49F4-43B5-A583-5A35927833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633-72F8-45E2-A244-BEC445F8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613-3A31-4232-83BD-CA36857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737-6483-497C-9630-90FA6924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3D9-A592-4B26-96DA-6D9A2B29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95F-8C4C-496C-A4F7-2C855DDA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007-31E9-42E8-AD73-AECBFA4A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002-25E5-44AE-9546-05A07068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41E-5320-4B32-8CCA-89C1BDF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179-18C1-4E75-9572-2EC1CBEB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635-3807-4840-AA25-9ED2A61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DA6-1945-4782-B4AE-5197A08A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C26-4E62-4EFD-92F2-2945AB6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E56-B011-434A-87D7-C939073E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P00640_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3483000" cy="346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23880" y="533520"/>
            <a:ext cx="3378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Globalizzazion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1280" y="2057400"/>
            <a:ext cx="35816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Globalizz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66680"/>
            <a:ext cx="3352680" cy="1371600"/>
          </a:xfrm>
          <a:prstGeom prst="rightArrow">
            <a:avLst>
              <a:gd name="adj1" fmla="val 50000"/>
              <a:gd name="adj2" fmla="val 611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iglioramento dei mezzi di tras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666880"/>
            <a:ext cx="3429000" cy="1447920"/>
          </a:xfrm>
          <a:prstGeom prst="rightArrow">
            <a:avLst>
              <a:gd name="adj1" fmla="val 50000"/>
              <a:gd name="adj2" fmla="val 5920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iglioramento dei mezzi di comun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tili di v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iù sim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62320" y="2971800"/>
            <a:ext cx="1752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0481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9718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12949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952880"/>
            <a:ext cx="175248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ibera circol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i mer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048120"/>
            <a:ext cx="19047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ibera circol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i pers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28600"/>
            <a:ext cx="22860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iduzione delle dista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9528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4952880"/>
            <a:ext cx="2057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Immigrazione  e cit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Multietn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4191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39:36Z</dcterms:created>
  <dc:creator>studente</dc:creator>
  <dc:description/>
  <dc:language>en-US</dc:language>
  <cp:lastModifiedBy>studente</cp:lastModifiedBy>
  <dcterms:modified xsi:type="dcterms:W3CDTF">2017-01-09T09:58:13Z</dcterms:modified>
  <cp:revision>9</cp:revision>
  <dc:subject/>
  <dc:title>Presentazione di PowerPoint</dc:title>
</cp:coreProperties>
</file>